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4.jpeg" ContentType="image/jpeg"/>
  <Override PartName="/ppt/media/image8.png" ContentType="image/png"/>
  <Override PartName="/ppt/media/image11.jpeg" ContentType="image/jpeg"/>
  <Override PartName="/ppt/media/image1.jpeg" ContentType="image/jpeg"/>
  <Override PartName="/ppt/media/image7.png" ContentType="image/png"/>
  <Override PartName="/ppt/media/image12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dt" idx="4"/>
          </p:nvPr>
        </p:nvSpPr>
        <p:spPr>
          <a:xfrm>
            <a:off x="5179680" y="-360"/>
            <a:ext cx="396252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914400" y="3300120"/>
            <a:ext cx="731520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-360" y="6513120"/>
            <a:ext cx="396252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5179680" y="6513120"/>
            <a:ext cx="396252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1DB54-DEE3-4225-9C8A-42346F2793F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Img"/>
          </p:nvPr>
        </p:nvSpPr>
        <p:spPr>
          <a:xfrm>
            <a:off x="2857680" y="520920"/>
            <a:ext cx="3428280" cy="257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3029040" y="857160"/>
            <a:ext cx="3085920" cy="23148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14400" y="3300120"/>
            <a:ext cx="7315200" cy="27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Slide Number Placeholder 3"/>
          <p:cNvSpPr/>
          <p:nvPr/>
        </p:nvSpPr>
        <p:spPr>
          <a:xfrm>
            <a:off x="5180040" y="6513480"/>
            <a:ext cx="39625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DB69F-0F87-4BE0-9443-412EB3BFCC88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3029040" y="857160"/>
            <a:ext cx="3085920" cy="23148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3300120"/>
            <a:ext cx="7315200" cy="27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Slide Number Placeholder 3"/>
          <p:cNvSpPr/>
          <p:nvPr/>
        </p:nvSpPr>
        <p:spPr>
          <a:xfrm>
            <a:off x="5180040" y="6513480"/>
            <a:ext cx="39625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587FA-E6AE-4A06-9860-8635E4C66244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3029040" y="857160"/>
            <a:ext cx="3085920" cy="23148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3300120"/>
            <a:ext cx="7315200" cy="27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Slide Number Placeholder 3"/>
          <p:cNvSpPr/>
          <p:nvPr/>
        </p:nvSpPr>
        <p:spPr>
          <a:xfrm>
            <a:off x="5180040" y="6513480"/>
            <a:ext cx="39625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D6334-39FB-44EE-943F-C69D317743BB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0BBDD-A7C2-4000-98A2-26E36D4B6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E1F0B-DD3D-428A-93A0-6DA1EB124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E3AA9-A05D-470F-A28A-F5BBF9FFB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993C9-E60D-44E0-9CFC-AA09AAB33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29980-07B3-4A75-AB9E-AAE7D1C94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F65F1-E61B-407B-AD2A-2546EDA7B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98DC9-650A-4EA0-8255-F198C6D96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4191D-071F-439D-8339-25CAC60B3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3D727-14BC-475A-956A-81D5E92AA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CB66C-F3E2-4961-9B2F-442CFF373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FF770-A26F-4E08-8E20-4B735C1D3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54D2E-A8D7-47AB-ACE3-6F4F92578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27C29-AF3E-4630-9AD2-B774A33D0CD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ocial Studies</a:t>
            </a:r>
            <a:br>
              <a:rPr sz="4400"/>
            </a:b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304560" y="1600200"/>
            <a:ext cx="838188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 u="sng">
                <a:solidFill>
                  <a:srgbClr val="ffffff"/>
                </a:solidFill>
                <a:uFillTx/>
                <a:latin typeface="Tahoma"/>
              </a:rPr>
              <a:t>The Road to Self-Government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circl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57200" y="-360"/>
            <a:ext cx="822960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ns of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Liberty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– groups of colonists who organized protests against the British govern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amuel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Adam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wrote articles against the Stamp Act, then created th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ns of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Liber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October of 1765,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Colonist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           demanded that the Stamp Act                     be repealed (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canceled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year later, Parliament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pealed the Stamp Ac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0" name="Picture 5" descr="Portrait of Samuel Adams"/>
          <p:cNvPicPr/>
          <p:nvPr/>
        </p:nvPicPr>
        <p:blipFill>
          <a:blip r:embed="rId1"/>
          <a:stretch/>
        </p:blipFill>
        <p:spPr>
          <a:xfrm>
            <a:off x="6380280" y="2286000"/>
            <a:ext cx="2763720" cy="351468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8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3" dur="2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8" dur="20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3" dur="20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8" dur="2000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3" dur="2000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8" dur="2000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e5ffff"/>
                </a:solidFill>
                <a:uFillTx/>
                <a:latin typeface="Tahoma"/>
              </a:rPr>
              <a:t>Troubles in Bosto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arliament then passed the Townshend Ac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wnshend Acts – the colonists had to pay taxes on all tea, paper, glass, lead, and paint that they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imported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from Britai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colonists decided to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boycott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(not buy) the British goods that were tax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s led to greater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riot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and protests, the largest was The Boston Massac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circle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5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0" dur="2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5" dur="20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0" dur="20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5" dur="20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456840" y="152280"/>
            <a:ext cx="84582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After the Boston Massacre, Parliament repealed the Townshend acts, but it kept the tax on tea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he colonists united to fight the Tea Ac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4" name="Picture 8" descr="http://alexanderstreet.typepad.com/.a/6a00d8341c1bf053ef01156f60fc43970c-800wi"/>
          <p:cNvPicPr/>
          <p:nvPr/>
        </p:nvPicPr>
        <p:blipFill>
          <a:blip r:embed="rId1"/>
          <a:stretch/>
        </p:blipFill>
        <p:spPr>
          <a:xfrm>
            <a:off x="2209680" y="2590920"/>
            <a:ext cx="4953240" cy="380052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2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7" dur="5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he Boston Tea Party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1773, British ships carrying thousands of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pound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of tea across the Atlantic Ocean to Boston were docked in the Boston Harbor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colonists disguised                              themselves and                                            boarded th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ship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in                                                the middle of night                                             and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dumped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the tea                                             into the sea to                                                  protest the tea tax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7" name="Picture 5" descr="BostonTeaParty"/>
          <p:cNvPicPr/>
          <p:nvPr/>
        </p:nvPicPr>
        <p:blipFill>
          <a:blip r:embed="rId1"/>
          <a:stretch/>
        </p:blipFill>
        <p:spPr>
          <a:xfrm>
            <a:off x="5181480" y="2895480"/>
            <a:ext cx="3821400" cy="330228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4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9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4" dur="2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9" dur="20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e5ffff"/>
                </a:solidFill>
                <a:uFillTx/>
                <a:latin typeface="Tahoma"/>
              </a:rPr>
              <a:t>Happenings in Bosto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79" name="The_Boston_Massacre_and_the_Boston_Tea_Party.mp4" descr=""/>
          <p:cNvPicPr/>
          <p:nvPr/>
        </p:nvPicPr>
        <p:blipFill>
          <a:blip r:embed="rId1"/>
          <a:stretch/>
        </p:blipFill>
        <p:spPr>
          <a:xfrm>
            <a:off x="1143000" y="1368360"/>
            <a:ext cx="7162920" cy="525636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6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7" restart="whenNotActive" nodeType="interactiveSeq" fill="hold">
                <p:stCondLst>
                  <p:cond evt="onClick">
                    <p:tgtEl>
                      <p:spTgt spid="79"/>
                    </p:tgtEl>
                  </p:cond>
                </p:stCondLst>
                <p:childTnLst>
                  <p:par>
                    <p:cTn id="248" nodeType="clickEffect" fill="hold">
                      <p:stCondLst>
                        <p:cond evt="onClick">
                          <p:tgtEl>
                            <p:spTgt spid="79"/>
                          </p:tgtEl>
                        </p:cond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51" dur="1" fill="hold"/>
                                        <p:tgtEl>
                                          <p:spTgt spid="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380880" y="3808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fter the Boston Tea Party, Parliament closed Boston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 Harbor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 known as The British Port Ac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y also passed the Quartering Act, which ordered the colonists to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feed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and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hous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the British soldiers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colonists called these actions the                                           Intolerable Act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1" name="Picture 8" descr="http://allthingsliberty.com/wp-content/uploads/2013/06/intolerablefeatured.jpg"/>
          <p:cNvPicPr/>
          <p:nvPr/>
        </p:nvPicPr>
        <p:blipFill>
          <a:blip r:embed="rId1"/>
          <a:stretch/>
        </p:blipFill>
        <p:spPr>
          <a:xfrm>
            <a:off x="1981080" y="4495680"/>
            <a:ext cx="4419720" cy="169560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8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3" dur="5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8" dur="5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olonists’ Bind Together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uring this time, colonists began to connect with an idea of Patriotis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y wanted America to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e its own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 country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d soon this led to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Revolution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4" name="Picture 2" descr="http://o.quizlet.com/i/n3bWbij1TxJLi7Fy2yDAxA_m.jpg"/>
          <p:cNvPicPr/>
          <p:nvPr/>
        </p:nvPicPr>
        <p:blipFill>
          <a:blip r:embed="rId1"/>
          <a:stretch/>
        </p:blipFill>
        <p:spPr>
          <a:xfrm>
            <a:off x="5638680" y="3200400"/>
            <a:ext cx="2590920" cy="339732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5" descr="Transient"/>
          <p:cNvPicPr/>
          <p:nvPr/>
        </p:nvPicPr>
        <p:blipFill>
          <a:blip r:embed="rId1"/>
          <a:stretch/>
        </p:blipFill>
        <p:spPr>
          <a:xfrm>
            <a:off x="5257800" y="4127400"/>
            <a:ext cx="3524400" cy="260028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e5ffff"/>
                </a:solidFill>
                <a:uFillTx/>
                <a:latin typeface="Tahoma"/>
              </a:rPr>
              <a:t>Plans For Government in the Colonies, 1600’s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620 –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Mayflower Compac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– A written agreement to make laws for the Plymouth colony,  meant to keep them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saf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and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organiz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ritten by the Separatists, who were fleeing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religiou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persecution from Engla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ated they would work together to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urviv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gned by 41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men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presentative of th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famili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n the Mayflow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" dur="5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" dur="5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" dur="50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" dur="500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7" dur="500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152280" y="23796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-2469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illiam Penn was given land by King Charles II for a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Quaker colony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– a place where they could practice their religious beliefs in pea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46960" indent="-2469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682 – Pennsylvania Fram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46960" indent="-246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f Government – A written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46960" indent="-246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lan for government that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46960" indent="-246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ranted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religious freedom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46960" indent="-246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lonists, and organized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46960" indent="-246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roups of people to creat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46960" indent="-246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govern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3" name="Picture 4" descr="http://media-2.web.britannica.com/eb-media/38/91538-004-503731F9.jpg"/>
          <p:cNvPicPr/>
          <p:nvPr/>
        </p:nvPicPr>
        <p:blipFill>
          <a:blip r:embed="rId1"/>
          <a:stretch/>
        </p:blipFill>
        <p:spPr>
          <a:xfrm>
            <a:off x="5778360" y="2438280"/>
            <a:ext cx="3079800" cy="382932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7080" y="763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e5ffff"/>
                </a:solidFill>
                <a:uFillTx/>
                <a:latin typeface="Tahoma"/>
              </a:rPr>
              <a:t>The Virginia House of Burgesses</a:t>
            </a: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52280" y="761760"/>
            <a:ext cx="87616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619– The Virginia Company establishes the House of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Burgesse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 the first legislative assembly in America, similar to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Parlia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en met together to discuss ways to keep the colony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prosperou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 and to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represent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the people in their tow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6" name="Picture 9" descr="http://www.socialstudiesforkids.com/graphics/houseofburgesses2.jpg"/>
          <p:cNvPicPr/>
          <p:nvPr/>
        </p:nvPicPr>
        <p:blipFill>
          <a:blip r:embed="rId1"/>
          <a:stretch/>
        </p:blipFill>
        <p:spPr>
          <a:xfrm>
            <a:off x="487440" y="3559320"/>
            <a:ext cx="7970760" cy="317484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9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4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151920" y="1143000"/>
            <a:ext cx="8915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lonies had been growing larger and learning to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govern themselv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Parliament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– Britain’s law-making bod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assemblie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– law-making bod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647280" y="75960"/>
            <a:ext cx="81536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e5ffff"/>
                </a:solidFill>
                <a:uFillTx/>
                <a:latin typeface="Tahoma"/>
              </a:rPr>
              <a:t>Colonial Governmen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59" name="Picture 6" descr="http://www.history.org/almanack/places/hb/images/capitolburgesses.jpg"/>
          <p:cNvPicPr/>
          <p:nvPr/>
        </p:nvPicPr>
        <p:blipFill>
          <a:blip r:embed="rId1"/>
          <a:stretch/>
        </p:blipFill>
        <p:spPr>
          <a:xfrm>
            <a:off x="2286000" y="3581280"/>
            <a:ext cx="4638600" cy="303696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1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6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1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380880" y="1519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Laws affecting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ach colony were made by the colonial assembl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town meeting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– a group of male colonists who got together to solve local problem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1" name="Picture 5" descr="http://williampennhouse.org/sites/default/files/quaker%20meeting%202.jpg"/>
          <p:cNvPicPr/>
          <p:nvPr/>
        </p:nvPicPr>
        <p:blipFill>
          <a:blip r:embed="rId1"/>
          <a:stretch/>
        </p:blipFill>
        <p:spPr>
          <a:xfrm>
            <a:off x="2733840" y="2438280"/>
            <a:ext cx="3524040" cy="428652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3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8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e5ffff"/>
                </a:solidFill>
                <a:uFillTx/>
                <a:latin typeface="Tahoma"/>
              </a:rPr>
              <a:t>The 13 Colonies Begin to Rebel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he French and Indian War ends with the 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Tahoma"/>
              </a:rPr>
              <a:t>Proclamation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of 1763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ated that colonists could not move past the Appalachian Mountains, for that was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Nativ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Americans’ lan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reality, they didn’t want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colonists to get mor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lan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4" name="Picture 7" descr="http://upload.wikimedia.org/wikipedia/commons/thumb/3/38/Map_of_territorial_growth_1775.svg/506px-Map_of_territorial_growth_1775.svg.png"/>
          <p:cNvPicPr/>
          <p:nvPr/>
        </p:nvPicPr>
        <p:blipFill>
          <a:blip r:embed="rId1"/>
          <a:stretch/>
        </p:blipFill>
        <p:spPr>
          <a:xfrm>
            <a:off x="6518160" y="3398760"/>
            <a:ext cx="2625840" cy="343548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Sugar_Act__Stamp_Act__and_Townshend_Acts.mp4" descr=""/>
          <p:cNvPicPr/>
          <p:nvPr/>
        </p:nvPicPr>
        <p:blipFill>
          <a:blip r:embed="rId1"/>
          <a:stretch/>
        </p:blipFill>
        <p:spPr>
          <a:xfrm>
            <a:off x="685800" y="685800"/>
            <a:ext cx="7543800" cy="553572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  <p:timing>
    <p:tnLst>
      <p:par>
        <p:cTn id="111" dur="indefinite" restart="never" nodeType="tmRoot">
          <p:childTnLst>
            <p:seq>
              <p:cTn id="112" restart="whenNotActive" nodeType="interactiveSeq" fill="hold">
                <p:stCondLst>
                  <p:cond evt="onClick">
                    <p:tgtEl>
                      <p:spTgt spid="65"/>
                    </p:tgtEl>
                  </p:cond>
                </p:stCondLst>
                <p:childTnLst>
                  <p:par>
                    <p:cTn id="113" nodeType="clickEffect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6" dur="1" fill="hold"/>
                                        <p:tgtEl>
                                          <p:spTgt spid="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e5ffff"/>
                </a:solidFill>
                <a:uFillTx/>
                <a:latin typeface="Tahoma"/>
              </a:rPr>
              <a:t>England Tightens It’s Grip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Stamp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Act – (1765) British law placing taxes on the colon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ave power of the government (who could give taxes)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back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to Englan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used them to begin to feel their rights had been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violated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 as they could send no representative to English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Parlia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 Taxation without Representation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AutoShape 7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circle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3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8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3" dur="5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8" dur="5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1" dur="500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04T00:39:25Z</dcterms:created>
  <dc:creator>Catch211</dc:creator>
  <dc:description/>
  <dc:language>en-US</dc:language>
  <cp:lastModifiedBy>Weiman, Gabrielle R</cp:lastModifiedBy>
  <cp:lastPrinted>2014-10-13T12:38:22Z</cp:lastPrinted>
  <dcterms:modified xsi:type="dcterms:W3CDTF">2014-10-13T19:09:21Z</dcterms:modified>
  <cp:revision>63</cp:revision>
  <dc:subject/>
  <dc:title>Social Studies Chapter 11</dc:title>
</cp:coreProperties>
</file>